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219320" y="4568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763120"/>
            <a:ext cx="4876920" cy="379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5029200" y="8763120"/>
            <a:ext cx="18273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65AE7-5C1A-40D0-A1AE-486122F9C9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380520" y="4267080"/>
            <a:ext cx="6172200" cy="42674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Tracing TCP/IP Activity with the Kernel Logg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enable the kernel logger and have it generate a log file of TCP/IP activity, follow these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the Performance Tool, and select the Performance Logs And Alerts no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race Logs, and then select New Log Settings from the Action menu.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ompted, enter a name for the settings (for example, experim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dialog box that opens, select the Events Logged By System Provider option  and then deselect everything except the Network TCP/IP op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Run As edit box, enter the Administrator account name and set the password to match i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miss the dialog box, and generate network activity by opening a browser and  visiting a Web sit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the trace log you created in the trace log node, and select Stop from the  Action menu.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 a command prompt, and change to the C:\Perflogs directory (or the directory into which you specified that the trace log file be stor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running Windows XP or Windows Server 20003, run Tracerpt (located  in the \Windows\System32 directory) and pass it the name of the trace log file. If  you are running Windows 2000, download and run Tracedmp from the Windows  2000 Resource Kit. Both tools generate two files: dumpfile.csv and summary.tx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dumpfile.csv in Microsoft Excel or in a text editor. You should see TCP and/ or UDP trace record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19320" y="457200"/>
            <a:ext cx="4572000" cy="3429000"/>
          </a:xfrm>
          <a:prstGeom prst="rect">
            <a:avLst/>
          </a:prstGeom>
          <a:ln w="0">
            <a:noFill/>
          </a:ln>
        </p:spPr>
      </p:sp>
      <p:sp>
        <p:nvSpPr>
          <p:cNvPr id="139"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b Objective: Generate an Easy Cra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ost straightforward Notmyfault crash to debug is the one caused by selecting the Hig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RQL Fault (Kernelmode) option and clicking the Do Bug button. This causes the driver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ocate a page of paged pool, free the pool, raise the IRQL to above DPC/dispatch level,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to touch the page it has freed. (See Chapter 3 for more information on IRQLs.) If th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esn’t cause a crash, the process continues by reading memory past the end of the page unt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causes a crash by accessing invalid pages. The driver performs several illegal operations as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It references memory that doesn’t belong to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It references paged pool at an IRQL that’s DPC/dispatch level or higher, which is illeg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page faults are not permitted when the processor IRQL is DPC/dispatch level 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hen it goes past the end of the memory that it had allocated, it tries to reference mem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t is potentially inval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ason the first page reference might not cause a crash is that it won’t generate a page 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page that the driver frees remains in the system working s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19320" y="457200"/>
            <a:ext cx="4572000" cy="3429000"/>
          </a:xfrm>
          <a:prstGeom prst="rect">
            <a:avLst/>
          </a:prstGeom>
          <a:ln w="0">
            <a:noFill/>
          </a:ln>
        </p:spPr>
      </p:sp>
      <p:sp>
        <p:nvSpPr>
          <p:cNvPr id="141"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b Objective: Analyzing an Easy Cras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you reboot after the crash generated in the “Generating an Easy Crash” lab, run Windbg (part of the Debugging Tools for Windows – a free download from www.microsoft.c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ke sure you have configured the symbol path (click File-&gt;Set Symbol Path) to use the Microsoft symbol server.  Set the symbol path to:</a:t>
            </a:r>
            <a:endParaRPr b="0" lang="en-US" sz="8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700" spc="-1" strike="noStrike">
                <a:solidFill>
                  <a:srgbClr val="000000"/>
                </a:solidFill>
                <a:latin typeface="Courier New"/>
              </a:rPr>
              <a:t>srv*c:\symbols*http://msdl.microsoft.com/download/symb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For more information on symbols, see </a:t>
            </a:r>
            <a:r>
              <a:rPr b="0" lang="en-US" sz="700" spc="-1" strike="noStrike">
                <a:solidFill>
                  <a:srgbClr val="000000"/>
                </a:solidFill>
                <a:latin typeface="Arial"/>
              </a:rPr>
              <a:t>http://www.microsoft.com/whdc/ddk/debugging/symbols.mspx)</a:t>
            </a:r>
            <a:endParaRPr b="0" lang="en-US" sz="7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hing to note is that Windbg reports errors trying to load symbols for Myfault.sys and Notmyfault.exe. These are expected because the symbol files for them are not on the symbol-file path (which is configured to point at the Microsoft symbol server). You’ll see similar errors for third-party drivers and executables that do not ship with the operating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nalysis text itself is terse, showing the numeric stop code and bug check parameters follow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a “probably caused by” line that shows the analysis engine’s best guess at the offend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iver. In this case it’s on the mark and points directly at Myfault.sys, so there’s no need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ual analy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en though the basic analysis of the Notmyfault crash identifies the faulty driver, you shoul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ways have the debugger execute a verbose analysis by entering the comm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alyze –v</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obvious difference between the verbose and default analysis is the description of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p code and its parameter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aves you the trouble of opening the help file to find the same information, and the tex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metimes suggests troubleshooting steps, an example of which you’ll see in the next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 advanced crash dump analy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other potentially useful information in a verbose analysis is the stack trace of the threa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was executing on the processor that crashed at the time of the crash. Here’s what it loo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ke for the same dum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TACK_TEX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WARNING: Stack unwind information not available. Following frames may be wro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7e6dc34 804ac5de ff7c4040 beb4bf68 ff80a9c8 myfault+0x35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7e6dd00 804a8f1e 00000070 00000000 00000000 nt!IopXxxControlFile+0x5e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7e6dd34 80461691 00000070 00000000 00000000 nt!NtDeviceIoControlFile+0x28</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7e6dd34 77f96be2 00000070 00000000 00000000 nt!KiSystemService+0xc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0012f4a0 77e84c9b 00000070 00000000 00000000 ntdll!ZwDeviceIoControlFile+0xb</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0012f504 004017c3 00000070 83360018 00000000 KERNEL32!DeviceIoControl+0x10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000200ac 00000000 00000000 00000000 00000000 NotMyfault+0x17c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receding stack shows that the Notmyfault executable image, shown at the bott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voked the DeviceIoControl function in Kernel32.dll, which in turn invoked ZwDeviceIoControlFi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Ntdll.dll, and so on, until finally, the system crashed with the execution of 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struction in the Myfault image. A stack trace like this can be useful because crashes sometim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ccur as the result of one driver passing another one improperly formatted, corrupt, 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has illegal parameters. The driver that’s passed the invalid data might cause a crash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t the blame in an analysis, when the stack reveals that another driver was involved. In th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ple trace, no driver other than myfault is listed. (The module “nt” is Ntoskrn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the driver singled out by an analysis is unfamiliar to you, use the lm (list modules) comm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look at the driver’s version information. Add the k (kernel modules) and v (verbo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tions along with the m (match) option followed by the name of the driver and a wildcar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kd&gt; lm kv m myfaul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tart end module na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224d000 f224dbe0 myfault (defer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mage path: \??\C:\WINNT\system32\drivers\myfault.sy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imestamp: Thu Apr 29 14:53:12 2004 (40915D28) Checksum: 0001009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mageSize : 00000BE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ile version: 2.0.0.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roduct version: 2.0.0.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ile flags: 0 (Mask 3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ile OS: 40004 NT Win3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ile type: 3.7 Dri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ile date: 00000000.0000000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ranslations: 0409.04b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ompanyName: Sysinterna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roductName: Sysinternals Myfaul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nternalName: myfault.sy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iginalFilename: myfault.sy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roductVersion: 2.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ileVersion: 2.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ileDescription: Crash Test Dri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egalCopyright: Copyright (C) M. Russinovich 2002-200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to using the description to identify the purpose of a driver, you can also use the fi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product version numbers to see whether the version installed is the most up-to-date ver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vailable. (You can do this by checking the vendor Web site, for instance.) If version inform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n’t present (because it might have been paged out of physical memory at the time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crash), look at the driver image file’s properties in Explorer on the system that crash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219320" y="457200"/>
            <a:ext cx="4572000" cy="3429000"/>
          </a:xfrm>
          <a:prstGeom prst="rect">
            <a:avLst/>
          </a:prstGeom>
          <a:ln w="0">
            <a:noFill/>
          </a:ln>
        </p:spPr>
      </p:sp>
      <p:sp>
        <p:nvSpPr>
          <p:cNvPr id="143"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b: Generating a Buffer Overflow Cras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far the most common source of crashes on Windows is pool corruption. Pool corru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ually occurs when a driver suffers from a buffer overrun or buffer underrun bug that caus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to overwrite data past either the end or start of a buffer it has allocated from paged or nonpag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ol. The Executive’s pool-tracking structures reside on either side of a pool buffer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parate buffers from each other. These bugs, therefore, cause corruption to the pool track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ructures, to buffers owned by other drivers, or to both. The crashes caused by pool corru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re virtually impossible to debug because the system crashes when corrupted data is referenc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 when the corruption occu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o assist in catching these difficult corruptions, Windows XP Service Pack 2 and lat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forms pool-block tail checking at all times. Thus, buffer overruns are likely to cause 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mediate BAD_POOL_HEADER cras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generate a pool corruption crash by running Notmyfault and selecting the Buff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erflow bug. This causes Myfault to allocate a buffer and then overwrite the 40 bytes follow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buffer. There can be a significant delay between the time you click the Do Bug butt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a crash occurs, and you might even have to generate pool usage by exercising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a crash occurs, which highlights the distance between a corruption and its effect 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 stability. An analysis of the resultant crash almost always reports Ntoskrnl or anot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iver as being the likely cause, which demonstrates the usefulness of a verbose analysis wi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s description of the stop co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RIVER_CORRUPTED_EXPOOL (c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attempt was made to access a pageable (or completely invalid) address at 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nterrupt request level (IRQL) that is too high. This 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used by drivers that have corrupted the system pool. Run the dri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verifier against any new (or suspect) drivers, and if that doesn’t turn u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culprit, then use gflags to enable special poo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dvice in the description is to run the Driver Verifier against any new or suspect drivers 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use Gflags to enable special pool. Both accomplish the same thing: to have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tect a potential corruption when it occurs and crash the system in a way that makes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mated analysis point at the driver causing the corru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the Driver Verifier’s special pool option is enabled, verified drivers use special pool, rat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n paged or nonpaged pool, for any allocations they make for buffers slightly less than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in size. A buffer allocated from special pool is sandwiched between two invalid pages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default is aligned against the top of the page. The special pool routines also fill the un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rtions of the page in which the buffer resides with a random patter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ystem detects any buffer overruns of under a page in size at the time of the overru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cause they cause a page fault on the invalid page following the buffer. The signature serv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catch buffer underruns at the time the driver frees a buffer because the integrity of the patter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ced there at the time of allocation will have been compromi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19320" y="457200"/>
            <a:ext cx="4572000" cy="3429000"/>
          </a:xfrm>
          <a:prstGeom prst="rect">
            <a:avLst/>
          </a:prstGeom>
          <a:ln w="0">
            <a:noFill/>
          </a:ln>
        </p:spPr>
      </p:sp>
      <p:sp>
        <p:nvSpPr>
          <p:cNvPr id="145"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b Objective: Using Verifier to Catch a Buffer Overru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see how the use of special pool causes a crash that the analysis engine easily diagnoses, ru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iver Verifier Manager (Verifier.exe). On Windows 2000 systems, go to the Settings tab, typ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fault.sys in the edit box at the bottom of the page where it allows you to specify addition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s, select the special pool check box, apply the changes, exit the Driver Verifier Manag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reboot. On Windows XP and Windows Server 2003, choose the Create Custom Sett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Code Developers) option on the first page of the wizard, choose Select Individual Sett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A Full List on the second, and select Special Pool. Choose the Select Drivers Fr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List option on the subsequent page, and on the page that lists drivers type myfault.sys i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le Find dialog box after pressing the button to add unloaded drivers. (You do not ha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myfault.sys in the File Find dialog box; just enter its name.) Then check the myfault.s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 exit the wizard, and reboo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 run Notmyfault again and cause a buffer overflow, the system will immediately crash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alysis of the dump reports th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obably caused by : myfault.sys ( myfault+3f1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al pool made an elusive bug into one that instantly reveals itself and makes the analy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ivial.</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457200"/>
            <a:ext cx="4572000" cy="3429000"/>
          </a:xfrm>
          <a:prstGeom prst="rect">
            <a:avLst/>
          </a:prstGeom>
          <a:ln w="0">
            <a:noFill/>
          </a:ln>
        </p:spPr>
      </p:sp>
      <p:sp>
        <p:nvSpPr>
          <p:cNvPr id="123"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Manual includes experiments investigating performance and boot/startup mechanisms implemented inside the Windows operating system. Students are expected to carry out Labs in addition to studying the learning materials in Unit OS1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19320" y="457200"/>
            <a:ext cx="4572000" cy="3429000"/>
          </a:xfrm>
          <a:prstGeom prst="rect">
            <a:avLst/>
          </a:prstGeom>
          <a:ln w="0">
            <a:noFill/>
          </a:ln>
        </p:spPr>
      </p:sp>
      <p:sp>
        <p:nvSpPr>
          <p:cNvPr id="125"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Observing Kernel Mode vs User Mode Processo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Performance tool to see how much time your system spends executing in kernel mode vs. in user mode. Follow these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un the Performance tool by opening the Start menu and selecting Programs/Administrative Tools/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lick the Add button (+) on the toolb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ith the Processor performance object selected, click the % Privileged Time counter and, while holding down the Ctrl key, click the % User Tim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lick Add, and then click Cl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ove the mouse rapidly back and forth. You should notice the % Privileged Time line going up when you move the mouse around, reflecting the time spent servicing the mouse interrupts and the time spent in the graphics part of the windowing system (which, as explained in Chapter 2, runs primarily as a device driver in kernel m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When you’re finished, click the New Counter Set button on the toolbar (or just close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quickly see this activity by using Task Manager. Just click the Performance tab, and then select Show Kernel Times from the View menu. The CPU usage bar will show user-mode time in green and kernel-mode time in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19320" y="457200"/>
            <a:ext cx="4572000" cy="3429000"/>
          </a:xfrm>
          <a:prstGeom prst="rect">
            <a:avLst/>
          </a:prstGeom>
          <a:ln w="0">
            <a:noFill/>
          </a:ln>
        </p:spPr>
      </p:sp>
      <p:sp>
        <p:nvSpPr>
          <p:cNvPr id="127"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b Objective: Observe Performance Tool’s CPU Usag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see how the Performance tool itself uses kernel time and user time, run it again, but add the individual Process counters % User Time and % Privileged Time for every process in the syste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If it’s not already running, run the Performance tool again. (If it is already running, start with a blank display by pressing the New Counter Set button on the toolb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Click the Add button (+) on the toolb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Change the Performance Object to Proces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Select the % Privileged Time and % User Time count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Select all processes in the Instance box (except the _Total proces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Click Add, and then click Clos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Move the mouse rapidly back and forth.</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Press Ctrl+H to turn on highlighting mode. This highlights the currently selected counter in white on Windows 2000 and black on Windows XP and Windows Server 2003.</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Scroll through the counters at the bottom of the display to identify the processes whose threads were running when you moved the mouse, and note whether they were running in user mode or kernel mo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should see the Performance tool process (by looking in the Instance column for the mmc process) kernel-mode and user-mode time go up when you move the mouse because it is executing application code in user mode and calling Windows functions that run in kernel mode. You’ll also notice kernel-mode thread activity in a process named csrss when you move the mouse. This activity occurs because the Windows subsyst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rnel-mode raw input thread, which handles keyboard and mouse input, is attached to this proces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the process named Idle that you see spending nearly 100 percent of its time in kernel mode isn’t really a process—it’s a fake process used to account for idle CPU cycles. As you can observe from the mode in which the threads in the Idle process run, when Windows has nothing to do, it does it in kernel mo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219320" y="457200"/>
            <a:ext cx="4572000" cy="3429000"/>
          </a:xfrm>
          <a:prstGeom prst="rect">
            <a:avLst/>
          </a:prstGeom>
          <a:ln w="0">
            <a:noFill/>
          </a:ln>
        </p:spPr>
      </p:sp>
      <p:sp>
        <p:nvSpPr>
          <p:cNvPr id="129"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Measure CPU Utilization under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lab, you will generate a high CPU load and observe the activity with Process Explor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19320" y="457200"/>
            <a:ext cx="4572000" cy="3429000"/>
          </a:xfrm>
          <a:prstGeom prst="rect">
            <a:avLst/>
          </a:prstGeom>
          <a:ln w="0">
            <a:noFill/>
          </a:ln>
        </p:spPr>
      </p:sp>
      <p:sp>
        <p:nvSpPr>
          <p:cNvPr id="131"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an example screen snapshot on a 4 way multiprocessor system using Process Explorer’s System Information displa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19320" y="457200"/>
            <a:ext cx="4572000" cy="3429000"/>
          </a:xfrm>
          <a:prstGeom prst="rect">
            <a:avLst/>
          </a:prstGeom>
          <a:ln w="0">
            <a:noFill/>
          </a:ln>
        </p:spPr>
      </p:sp>
      <p:sp>
        <p:nvSpPr>
          <p:cNvPr id="133"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Observe user mode vs kernel mode CPU consumption with Performance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lab, you will observe per-process CPU consumption of a process consuming user mode time and then mainly kernel mode tim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19320" y="457200"/>
            <a:ext cx="4572000" cy="3429000"/>
          </a:xfrm>
          <a:prstGeom prst="rect">
            <a:avLst/>
          </a:prstGeom>
          <a:ln w="0">
            <a:noFill/>
          </a:ln>
        </p:spPr>
      </p:sp>
      <p:sp>
        <p:nvSpPr>
          <p:cNvPr id="135"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Observe a low memory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mOptimize.exe program (part of the CRK tools – source code included) allocates a very large amount of virtual memory (80% of physical memory), modifies each page by setting the first 32-bits to 1 (which forces the memory manager to create real pages), and then exits, causing all the of the physical memory to be returned to the free list (and then zeroed).  While allocating and initializing the virtual memory, the operating system is forced to shrink the working set of other processes (and the system cache), which causes private pages to be written to the paging file (as well as virtual memory from the RamOptimize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RamOptimize process exits, the paging file usage will go down, but should be higher than it was before running it at all. Available bytes should be much higher than it was before, since the memory used by RamOptimize returns to the free memory list (and ultimately gets zeroed and put on the zero pag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D9E8CC6-7CB0-4A3C-88CF-ADB7F035EB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C4431A-EB38-4419-AF23-960377EE44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52C5CCA-2AD4-4148-B781-925824C32A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4D7CD21-DFFD-4465-81B4-0E92004397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67B234-29D7-469F-B3D6-ECEB7AF96E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977A0B-AEE0-40AA-96D3-DEA6AD391E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FA431B-1668-421D-A340-84B5FE3E3E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F96861-63B9-440C-B0AD-B9DFD04693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4693ED-D37A-4B5E-8BA3-6DCE57C4B3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8F937A-65BE-4BB4-AD99-8980AC13E3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5F245F-EFAB-4F56-B409-2A8D6056FD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942218-6F4F-4C27-84B5-9109AFEFB6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E803E-8EAA-4C19-A83B-D0495F707834}"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6453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11: Performance Evaluation</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4.</a:t>
            </a:r>
            <a:r>
              <a:rPr b="0" lang="de-DE" sz="2400" spc="-1" strike="noStrike">
                <a:solidFill>
                  <a:srgbClr val="ffffff"/>
                </a:solidFill>
                <a:latin typeface="Arial"/>
              </a:rPr>
              <a:t> </a:t>
            </a:r>
            <a:r>
              <a:rPr b="0" lang="en-US" sz="2400" spc="-1" strike="noStrike">
                <a:solidFill>
                  <a:srgbClr val="ffffff"/>
                </a:solidFill>
                <a:latin typeface="Arial"/>
              </a:rPr>
              <a:t>Lab Manual</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Tracing TCP/IP Activity</a:t>
            </a:r>
            <a:endParaRPr b="0" lang="en-US" sz="4000" spc="-1" strike="noStrike">
              <a:solidFill>
                <a:srgbClr val="fe9900"/>
              </a:solidFill>
              <a:latin typeface="Arial"/>
            </a:endParaRPr>
          </a:p>
        </p:txBody>
      </p:sp>
      <p:sp>
        <p:nvSpPr>
          <p:cNvPr id="111" name="PlaceHolder 2"/>
          <p:cNvSpPr>
            <a:spLocks noGrp="1"/>
          </p:cNvSpPr>
          <p:nvPr>
            <p:ph/>
          </p:nvPr>
        </p:nvSpPr>
        <p:spPr>
          <a:xfrm>
            <a:off x="457200" y="1752120"/>
            <a:ext cx="2819520" cy="297180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formance tool can enable logging</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rpt.exe and tracedmp.exe generate dumpfile.csv and summary.txt</a:t>
            </a:r>
            <a:br>
              <a:rPr sz="2000"/>
            </a:br>
            <a:r>
              <a:rPr b="0" lang="en-US" sz="2000" spc="-1" strike="noStrike">
                <a:solidFill>
                  <a:srgbClr val="ffffff"/>
                </a:solidFill>
                <a:latin typeface="Arial"/>
              </a:rPr>
              <a:t>(see notes)</a:t>
            </a:r>
            <a:endParaRPr b="0" lang="en-US" sz="2000" spc="-1" strike="noStrike">
              <a:solidFill>
                <a:srgbClr val="ffffff"/>
              </a:solidFill>
              <a:latin typeface="Arial"/>
            </a:endParaRPr>
          </a:p>
        </p:txBody>
      </p:sp>
      <p:pic>
        <p:nvPicPr>
          <p:cNvPr id="112" name="" descr=""/>
          <p:cNvPicPr/>
          <p:nvPr/>
        </p:nvPicPr>
        <p:blipFill>
          <a:blip r:embed="rId3"/>
          <a:stretch/>
        </p:blipFill>
        <p:spPr>
          <a:xfrm>
            <a:off x="3276720" y="1752480"/>
            <a:ext cx="5638680" cy="3969000"/>
          </a:xfrm>
          <a:prstGeom prst="rect">
            <a:avLst/>
          </a:prstGeom>
          <a:ln w="0">
            <a:noFill/>
          </a:ln>
        </p:spPr>
      </p:pic>
      <p:pic>
        <p:nvPicPr>
          <p:cNvPr id="113" name="" descr=""/>
          <p:cNvPicPr/>
          <p:nvPr/>
        </p:nvPicPr>
        <p:blipFill>
          <a:blip r:embed="rId4"/>
          <a:stretch/>
        </p:blipFill>
        <p:spPr>
          <a:xfrm>
            <a:off x="228600" y="4800600"/>
            <a:ext cx="5702400" cy="1882800"/>
          </a:xfrm>
          <a:prstGeom prst="rect">
            <a:avLst/>
          </a:prstGeom>
          <a:ln w="0">
            <a:noFill/>
          </a:ln>
        </p:spPr>
      </p:pic>
      <p:sp>
        <p:nvSpPr>
          <p:cNvPr id="4" name="PlaceHolder 3"/>
          <p:cNvSpPr>
            <a:spLocks noGrp="1"/>
          </p:cNvSpPr>
          <p:nvPr>
            <p:ph type="sldNum" idx="2"/>
          </p:nvPr>
        </p:nvSpPr>
        <p:spPr/>
        <p:txBody>
          <a:bodyPr/>
          <a:p>
            <a:fld id="{96EF1FC1-7936-4259-8E69-669EE5443C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Generating an Easy Crash</a:t>
            </a:r>
            <a:endParaRPr b="0" lang="en-US" sz="4000" spc="-1" strike="noStrike">
              <a:solidFill>
                <a:srgbClr val="fe9900"/>
              </a:solidFill>
              <a:latin typeface="Arial"/>
            </a:endParaRPr>
          </a:p>
        </p:txBody>
      </p:sp>
      <p:sp>
        <p:nvSpPr>
          <p:cNvPr id="11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NotMyFault (from Sysinternals) and select “High IRQL fault (kernel mode)”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s “Do Bug”</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causes the driver to:</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cate a paged pool buffer</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 the buffer</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ise IRQL ≥ DISPATCH_LEVEL</a:t>
            </a:r>
            <a:endParaRPr b="0" lang="en-US" sz="24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uch the buffer ,which causes a crash</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650FD5F-C780-432B-9651-2C159B22AA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Analyzing an Easy Crash</a:t>
            </a:r>
            <a:endParaRPr b="0" lang="en-US" sz="4000" spc="-1" strike="noStrike">
              <a:solidFill>
                <a:srgbClr val="fe9900"/>
              </a:solidFill>
              <a:latin typeface="Arial"/>
            </a:endParaRPr>
          </a:p>
        </p:txBody>
      </p:sp>
      <p:sp>
        <p:nvSpPr>
          <p:cNvPr id="11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generating the crash from the “Generating an Easy Crash” lab, when the system reboots, analyze the crash as follow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Windbg (Debugging Tools for Windows)</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 symbol path to use Microsoft symbol server</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crash dump (in \Windows\Minidump\xxx.dmp)</a:t>
            </a:r>
            <a:endParaRPr b="0" lang="en-US" sz="24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bugger should show the probable cause of the crash as Myfault.sy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0ACE464-A6C6-4026-B9D6-5E7F86FA6B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Buffer Overflow Crash</a:t>
            </a:r>
            <a:endParaRPr b="0" lang="en-US" sz="4000" spc="-1" strike="noStrike">
              <a:solidFill>
                <a:srgbClr val="fe9900"/>
              </a:solidFill>
              <a:latin typeface="Arial"/>
            </a:endParaRPr>
          </a:p>
        </p:txBody>
      </p:sp>
      <p:sp>
        <p:nvSpPr>
          <p:cNvPr id="11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NotMyFault (from Sysinternals) and select “Buffer Overflow” </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s “Do Bug”</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causes the Myfault driver to allocate a buffer and then overwrite the 40 bytes following</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ystem may not crash immediately since the corrupted buffer may not be referenced right away</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the system does not crash, keep clicking “Do Bug” until it doe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the reboot, open the crash with WinDbg to see the probable ca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2FCB524-DF58-4C83-9280-926443AA57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Lab: Using Verifier to Catch a Buffer Overflow</a:t>
            </a:r>
            <a:endParaRPr b="0" lang="en-US" sz="3600" spc="-1" strike="noStrike">
              <a:solidFill>
                <a:srgbClr val="fe9900"/>
              </a:solidFill>
              <a:latin typeface="Arial"/>
            </a:endParaRPr>
          </a:p>
        </p:txBody>
      </p:sp>
      <p:sp>
        <p:nvSpPr>
          <p:cNvPr id="12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Verifier.exe (in \Windows\System32) and enable Special Pool on Myfault.sy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boot</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NotMyFault (from Sysinternals) and select “Buffer Overflow” </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s “Do Bug” – the system will crash instantly</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boot and analyze the crash</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93A8524-98B7-42CE-B0F0-47DCE8BCC6F0}" type="slidenum">
              <a:t>14</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7E7D4C1-CA3F-4616-9508-31CEA47307B7}"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11.4</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 experiments investigating:</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PU consumption</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 memory condition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C647232-1996-4607-B227-94222CFA4DD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Lab: Observing Kernel Mode vs User Mode Processor Time</a:t>
            </a:r>
            <a:endParaRPr b="0" lang="en-US" sz="36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Performance Tool (perfmon.msc)</a:t>
            </a:r>
            <a:endParaRPr b="0" lang="en-US" sz="24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he Add button (+) on the toolbar.</a:t>
            </a:r>
            <a:endParaRPr b="0" lang="en-US" sz="24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the Processor performance object selected, click the % Privileged Time counter and, while holding down the Ctrl key, click the % User Time counter.</a:t>
            </a:r>
            <a:endParaRPr b="0" lang="en-US" sz="24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Add, and then click Close.</a:t>
            </a:r>
            <a:endParaRPr b="0" lang="en-US" sz="24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ve the mouse rapidly back and forth and notice % Privileged Time line going up when you move the mouse around.</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93826EC-AD62-4916-BCA7-7503C246F3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Lab Objective: Observe Performance Tool’s CPU Usage</a:t>
            </a:r>
            <a:endParaRPr b="0" lang="en-US" sz="36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Run the Performance Tool (perfmon.msc)</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Click the Add button (+) on the toolbar</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Change the Performance Object to Process</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Select the % Privileged Time and % User Time counters</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Select all processes in the Instance box (except the _Total process).</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Click Add, and then click Close</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 Move the mouse rapidly back and forth</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 Press Ctrl+H to turn on highlighting mode</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 Scroll through the counters at the bottom of the display to identify the processes whose threads were running when you moved the mouse, and note whether they were running in user mode or kernel mod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1DFFF39-1904-4301-B20F-44822006A5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Lab: Examining CPU Load with Process Explorer</a:t>
            </a:r>
            <a:endParaRPr b="0" lang="en-US" sz="3600" spc="-1" strike="noStrike">
              <a:solidFill>
                <a:srgbClr val="fe9900"/>
              </a:solidFill>
              <a:latin typeface="Arial"/>
            </a:endParaRPr>
          </a:p>
        </p:txBody>
      </p:sp>
      <p:sp>
        <p:nvSpPr>
          <p:cNvPr id="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Process Explorer</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View-&gt;System Informa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 multiprocessor system, click the “Show one graph per CPU” in the lower left hand corner</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CPUStres (part of CRK tool set) and set thread activity to Maximum</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ice 100% CPU utilization on one CPU</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 multiprocessor system, run one copy of CPUStres per processor</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9CD367B-CACA-4C83-A13B-E108A7130D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Example Screen Snapshot from previous lab</a:t>
            </a:r>
            <a:endParaRPr b="0" lang="en-US" sz="3200" spc="-1" strike="noStrike">
              <a:solidFill>
                <a:srgbClr val="fe9900"/>
              </a:solidFill>
              <a:latin typeface="Arial"/>
            </a:endParaRPr>
          </a:p>
        </p:txBody>
      </p:sp>
      <p:sp>
        <p:nvSpPr>
          <p:cNvPr id="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0" name="" descr=""/>
          <p:cNvPicPr/>
          <p:nvPr/>
        </p:nvPicPr>
        <p:blipFill>
          <a:blip r:embed="rId1"/>
          <a:stretch/>
        </p:blipFill>
        <p:spPr>
          <a:xfrm>
            <a:off x="539640" y="1125360"/>
            <a:ext cx="8008920" cy="5324760"/>
          </a:xfrm>
          <a:prstGeom prst="rect">
            <a:avLst/>
          </a:prstGeom>
          <a:ln w="0">
            <a:noFill/>
          </a:ln>
        </p:spPr>
      </p:pic>
      <p:sp>
        <p:nvSpPr>
          <p:cNvPr id="101" name=""/>
          <p:cNvSpPr/>
          <p:nvPr/>
        </p:nvSpPr>
        <p:spPr>
          <a:xfrm>
            <a:off x="431640" y="6021360"/>
            <a:ext cx="1692360" cy="360360"/>
          </a:xfrm>
          <a:prstGeom prst="rect">
            <a:avLst/>
          </a:prstGeom>
          <a:noFill/>
          <a:ln w="38160">
            <a:solidFill>
              <a:srgbClr val="99cc66"/>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02" name=""/>
          <p:cNvSpPr/>
          <p:nvPr/>
        </p:nvSpPr>
        <p:spPr>
          <a:xfrm>
            <a:off x="3527280" y="1916280"/>
            <a:ext cx="4645080" cy="720720"/>
          </a:xfrm>
          <a:prstGeom prst="rect">
            <a:avLst/>
          </a:prstGeom>
          <a:noFill/>
          <a:ln w="38160">
            <a:solidFill>
              <a:srgbClr val="99cc66"/>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pic>
        <p:nvPicPr>
          <p:cNvPr id="103" name="" descr=""/>
          <p:cNvPicPr/>
          <p:nvPr/>
        </p:nvPicPr>
        <p:blipFill>
          <a:blip r:embed="rId2"/>
          <a:stretch/>
        </p:blipFill>
        <p:spPr>
          <a:xfrm>
            <a:off x="3564000" y="1916280"/>
            <a:ext cx="4572000" cy="688680"/>
          </a:xfrm>
          <a:prstGeom prst="rect">
            <a:avLst/>
          </a:prstGeom>
          <a:ln w="0">
            <a:noFill/>
          </a:ln>
        </p:spPr>
      </p:pic>
      <p:sp>
        <p:nvSpPr>
          <p:cNvPr id="104" name=""/>
          <p:cNvSpPr/>
          <p:nvPr/>
        </p:nvSpPr>
        <p:spPr>
          <a:xfrm flipH="1">
            <a:off x="3492360" y="1665360"/>
            <a:ext cx="1943280" cy="250920"/>
          </a:xfrm>
          <a:prstGeom prst="line">
            <a:avLst/>
          </a:prstGeom>
          <a:ln w="28440">
            <a:solidFill>
              <a:srgbClr val="99cc66"/>
            </a:solidFill>
            <a:miter/>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05" name=""/>
          <p:cNvSpPr/>
          <p:nvPr/>
        </p:nvSpPr>
        <p:spPr>
          <a:xfrm>
            <a:off x="6551640" y="1628640"/>
            <a:ext cx="1620720" cy="287640"/>
          </a:xfrm>
          <a:prstGeom prst="line">
            <a:avLst/>
          </a:prstGeom>
          <a:ln w="28440">
            <a:solidFill>
              <a:srgbClr val="99cc66"/>
            </a:solidFill>
            <a:miter/>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3FAC037-8E1E-4C24-8AE3-A618490F39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Lab: Examining CPU Load with Performance Monitor</a:t>
            </a:r>
            <a:endParaRPr b="0" lang="en-US" sz="3600" spc="-1" strike="noStrike">
              <a:solidFill>
                <a:srgbClr val="fe9900"/>
              </a:solidFill>
              <a:latin typeface="Arial"/>
            </a:endParaRPr>
          </a:p>
        </p:txBody>
      </p:sp>
      <p:sp>
        <p:nvSpPr>
          <p:cNvPr id="10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CPUStres (part of CRK tool set) and set priority to “Below Normal” and  activity to “Maximum”</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the Performance Tool (perfmon.msc)</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the add counter dialog and select the process object</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 the CPUStres process and add two counters:</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User Time and % Privileged Time</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User Time should be near 100%,while % Privileged Time should be small or zero</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ag the CPUStres window around rapidly and notice % Privileged Time increase due to windowing system call activity</a:t>
            </a:r>
            <a:endParaRPr b="0" lang="en-US" sz="2400" spc="-1" strike="noStrike">
              <a:solidFill>
                <a:srgbClr val="ffffff"/>
              </a:solidFill>
              <a:latin typeface="Arial"/>
            </a:endParaRPr>
          </a:p>
          <a:p>
            <a:pPr marL="357120" indent="0">
              <a:lnSpc>
                <a:spcPct val="8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C03870E-FBD7-4586-940B-D040ED6532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Low Memory Conditions</a:t>
            </a:r>
            <a:endParaRPr b="0" lang="en-US" sz="4000" spc="-1" strike="noStrike">
              <a:solidFill>
                <a:srgbClr val="fe9900"/>
              </a:solidFill>
              <a:latin typeface="Arial"/>
            </a:endParaRPr>
          </a:p>
        </p:txBody>
      </p:sp>
      <p:sp>
        <p:nvSpPr>
          <p:cNvPr id="10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Performance Monitor (perfmon.msc) and add two counters to the graph:</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 Available Bytes</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ing File / % Usage</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cause a low memory condition, run RamOptimize.exe (part of CRK tool set – source included) and click “Optimize”</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ice Available Bytes goes down and Paging File usage goes up as RamOptimize process consumes virtual memory</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complete, Available Bytes will be much higher since the RamOptimize process releases all the memory it allocated, causing it to be returned to the system</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6C5B0FA-A763-47D0-B6A8-31BD932CFD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16:30Z</dcterms:created>
  <dc:creator>David A. Solomon, Mark E. Russinovich, and Andreas Polze</dc:creator>
  <dc:description/>
  <cp:keywords/>
  <dc:language>en-US</dc:language>
  <cp:lastModifiedBy>David Solomon</cp:lastModifiedBy>
  <cp:lastPrinted>2005-12-19T21:58:24Z</cp:lastPrinted>
  <dcterms:modified xsi:type="dcterms:W3CDTF">2006-01-27T20:39:43Z</dcterms:modified>
  <cp:revision>72</cp:revision>
  <dc:subject>Windows Operating Systems Internals Course</dc:subject>
  <dc:title>Unit OS11: Lab Description &amp; Lab Manual</dc:title>
</cp:coreProperties>
</file>